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DB95-BE79-4F91-B364-D68F50DD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083-381E-4EE5-B58F-A88E47C9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EDF-15D2-49A7-B579-4F5CA835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EB6-0F75-47DA-96BA-9620737F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C1E-2776-430B-90C6-DF2FAD0A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FB4-F1DC-4B35-ABE7-1EA15450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239-11E9-4BA0-87FA-F2AAE6CA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50F-F7B9-4502-BAA6-54E2B8C1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331-615A-4BB9-B728-7D49E82C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A5A-501F-4737-8D34-0B4E49A6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29A-A376-4F2D-BCB0-880EE49D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B79-D521-4C92-8B27-406B06B6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618C-1624-4D7F-B39D-D8D721B74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5909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419720"/>
            <a:ext cx="464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3434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219320"/>
            <a:ext cx="80010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276720"/>
            <a:ext cx="80010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334120"/>
            <a:ext cx="80010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9:05:34Z</dcterms:created>
  <dc:creator>amf</dc:creator>
  <dc:description/>
  <dc:language>en-US</dc:language>
  <cp:lastModifiedBy>Bellwood-Antis School District</cp:lastModifiedBy>
  <dcterms:modified xsi:type="dcterms:W3CDTF">2007-09-09T14:43:38Z</dcterms:modified>
  <cp:revision>9</cp:revision>
  <dc:subject/>
  <dc:title>Title</dc:title>
</cp:coreProperties>
</file>